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9B3D-EEC4-48B7-8008-FFF40C5E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EC3-0959-4D1B-9CF8-0E2A973E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6F8E-BB77-4327-BD6B-17E0FA75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BB5F-63E1-4425-89FD-23C66C3F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689-324D-4B4C-90B0-D2DE8188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619D-FA80-4CAE-BB7C-FB227EDD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AAC7-79C9-4823-B33B-00D97531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D0F9-7810-46A6-8438-1CE377CD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60CC-5E86-4B21-8708-B1EF8E46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C46B-1BF2-4F08-A7DE-2B172884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2199-B031-4ED7-B73D-9C20D4DF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5451-AE8A-4DEE-8C56-9DC0C098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FF8D-1C9C-4E6A-9480-5CE08318A9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3048120" cy="4106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71600" y="762120"/>
            <a:ext cx="6781680" cy="10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1,2,3 Dracula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5261c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228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8088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Rockwell Extra Bold"/>
              </a:rPr>
              <a:t>Un, deux, trois Dracula… Un, deux, trois Dracul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209680"/>
            <a:ext cx="8381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Rockwell Extra Bold"/>
              </a:rPr>
              <a:t>Compte avec m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Rockwell Extra Bold"/>
              </a:rPr>
              <a:t>Je suis le Com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Rockwell Extra Bold"/>
              </a:rPr>
              <a:t>Le Comte, le Comte, Dracu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3341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Rockwell Extra Bold"/>
              </a:rPr>
              <a:t>Un- deux- tro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96000" y="476280"/>
            <a:ext cx="3124080" cy="3311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010280" y="1143000"/>
            <a:ext cx="1782720" cy="242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8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24280" y="4435560"/>
            <a:ext cx="1782720" cy="2422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71600" y="304920"/>
            <a:ext cx="6781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Rockwell Extra Bold"/>
              </a:rPr>
              <a:t>Compte avec m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Rockwell Extra Bold"/>
              </a:rPr>
              <a:t>Je suis le Comte le comte  le comte Drac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2057400"/>
            <a:ext cx="556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Rockwell Extra Bold"/>
              </a:rPr>
              <a:t>Quatre, cinq, six, sept Dracu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Rockwell Extra Bold"/>
              </a:rPr>
              <a:t>Quatre, cinq, six, sept Dracu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441972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Rockwell Extra Bold"/>
              </a:rPr>
              <a:t>Un, deux, trois,quatre, cinq, six, se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16720" y="3645000"/>
            <a:ext cx="2927160" cy="32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14:12:30Z</dcterms:created>
  <dc:creator>SIMMS</dc:creator>
  <dc:description/>
  <dc:language>en-US</dc:language>
  <cp:lastModifiedBy>TONY SIMMS</cp:lastModifiedBy>
  <dcterms:modified xsi:type="dcterms:W3CDTF">2005-03-09T19:59:10Z</dcterms:modified>
  <cp:revision>7</cp:revision>
  <dc:subject/>
  <dc:title>PowerPoint Presentation</dc:title>
</cp:coreProperties>
</file>